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792-D4F5-402B-8E99-D1D41C8B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53A-48BF-4008-8572-7AE07BBD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7F5-37D6-46A5-B468-7E949EC3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AAF-50F4-4CE1-BBC5-A87C5330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2491-5B1A-4A90-AB5B-2E517E28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1EDE-8E4F-44F5-B785-1C249CCC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5DB-4DAD-496D-A9AE-06996F07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7D5-E4F9-4502-83B9-02797945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29DD-CE9C-492B-8926-03EB0D0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334-83A3-4543-B3D5-04C4C465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08D9-8362-4F09-BFFF-F4C1AC9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4FF-8974-41A0-AEE6-A7EA2E79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BE8D-9BB2-480E-9B44-2B54B5E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62F-1BDD-41D0-90DD-34246D6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225-CCDF-46E8-B9DA-F09DDD7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354C-6C3E-4D5F-BC70-61E383B7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BC2D-E51E-479A-9057-7F01339E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592-7B8B-499A-BB52-28A8EA5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845-275F-497A-BC82-98E7995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A5D-D64F-4BD1-BB57-9C9D6420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936-59C9-4667-9EA9-4D64E0B8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493-C608-440A-B019-349E19E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D87-C08F-4BE2-B86B-FDE9809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CF5-F7FA-4127-9DC4-E589574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E9E-E3FC-431B-AF54-88583A804386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134-99BE-4C9C-94E7-BF102371248D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286080" cy="3809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554800" y="0"/>
            <a:ext cx="3589200" cy="495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24080" y="2819520"/>
            <a:ext cx="271332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733920" y="0"/>
            <a:ext cx="2139840" cy="28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59280" y="3933720"/>
            <a:ext cx="338472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0880" y="2666880"/>
            <a:ext cx="548640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ussian Civil W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hat Caused the Civil War? 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civil war lasted for 3 years, 1918-1921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After November 1917, rise of Lenin, many groups formed that opposed Lenin and the Bolsheviks and how they worked for the peasants and the workers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se groups included monarchists, militarists, and for a short time, some foreign nations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In January 1918, General Kornilov organized an anti-bolshevik movement and his army was known as the White army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ogether, these groups were known as the White Army while the Bolsheviks were known as the Red Army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groups were led by general Yudenitch, Denikin and Kolchak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Treaty of Riga brought to an end the Russian Civil War.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605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00"/>
                </a:solidFill>
                <a:latin typeface="Copperplate Gothic Light"/>
              </a:rPr>
              <a:t>Nikolai Yudenich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5388120" cy="5184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posed the greatest threat to the Bolsheviks, as he reached Gatchina, a place 50 km from Petrograd, in October 1918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Trotsky soon arrived to defend the capita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Industrial workers were recruited and the railway from Moscow was used to bring backup and soon Yudenitch was outnumbere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then ordered his troops to surrender and escaped to Estonia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633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pperplate Gothic Light"/>
              </a:rPr>
              <a:t>Anton Denikin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65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Together with general Peter Wrangel, he took control of the Kuban Region in October, 1918 and Wrangel continued to advance along Volga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He retreated to Crimea when general Mikhail Frunze went to clear Turkestan of anti-bolshevik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He then retreated to 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Novorossiysk</a:t>
            </a: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 and was forced to leave Russia when faced by Mikhail Tukachevsky in April 1920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22760" y="1484280"/>
            <a:ext cx="2948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562800" cy="922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pperplate Gothic Light"/>
              </a:rPr>
              <a:t>Alexander Kolchak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84056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set up an anti-bolshevik dictatorship in Omsk (Siberia)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In March 1919 he captured Ufa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The Red Army, led by Mikhail Frunze entered Omsk in November 1919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Kolchak tried to escape but was captured by the Czechs who handed him over to the Bolshevik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Executed on 7th February 1920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46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4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hy did the Bolsheviks win the Civil War? 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The Bolsheviks were united under Lenin and Trotsky whilst the Whites were divided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They had a common cause, Marxism. The Whites had different agendas, their slogan, “Russia: one and indivisible” wasn’t true as they depended on foreign aid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81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Bolsheviks had a good geographical position as they were situated in the industrial heartlands of Russia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e Whites were 10500 kilometres away from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ach other and had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o communicate via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aris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318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1219320"/>
            <a:ext cx="60516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ace farquharthomson</cp:lastModifiedBy>
  <dcterms:modified xsi:type="dcterms:W3CDTF">2007-11-07T03:33:45Z</dcterms:modified>
  <cp:revision>10</cp:revision>
  <dc:subject/>
  <dc:title>Nikolai Yudenich</dc:title>
</cp:coreProperties>
</file>